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9139F0-0425-47B2-A34A-D9DFA2A3E336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BDA841-35E0-425F-9E35-11274ED83E8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8A1-3000-467B-813B-5155EE4D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54C-8697-4CB9-8627-8E82ACBE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D4E-AB11-4D76-8121-EC77CF68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CAD3-18A0-43A5-B56D-2948937E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07B-CEFB-4BD2-87BC-C33DB092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B0F-8BAD-4FF0-AAB8-D76AC815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5467-3F70-447B-8163-129FB37F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207-44DC-47A4-BD79-02A553BE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F9F-15B7-47C9-B37C-B5535464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C887-6F4E-4AA5-8397-01BECDB2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82B-2FCC-4DE1-8742-49A929FF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D13-55F9-4C03-93C6-09410A9C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C41C-9740-48A3-9A01-2466BFDEA3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online.fasie.ru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КРЫТЫЙ КОНКУР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ОММЕРЦИАЛИЗАЦИЯ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МАЛЫХ ИННОВАЦИОННЫХ ПРЕДПРИЯТ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предоставлению грантов на финансовое обеспечение (возмещение) расходов, связанных с реализацией инновационных проектов, результаты которых имеют перспективу коммерциализаци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исключением расходов на выполнение научно-исследовательских и опытно-конструкторских рабо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4370400" cy="1506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324000" y="6237360"/>
            <a:ext cx="83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бочее название конкурса, возможны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4720" y="340920"/>
            <a:ext cx="651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РИАНТЫ ФИНАНСИРОВАНИЯ МАЛЫХ ИННОВАЦИОННЫХ ПРЕДПРИ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хема 10" descr=""/>
          <p:cNvPicPr/>
          <p:nvPr/>
        </p:nvPicPr>
        <p:blipFill>
          <a:blip r:embed="rId2"/>
          <a:stretch/>
        </p:blipFill>
        <p:spPr>
          <a:xfrm>
            <a:off x="407880" y="2457360"/>
            <a:ext cx="3756240" cy="1865520"/>
          </a:xfrm>
          <a:prstGeom prst="rect">
            <a:avLst/>
          </a:prstGeom>
          <a:ln w="0">
            <a:noFill/>
          </a:ln>
        </p:spPr>
      </p:pic>
      <p:pic>
        <p:nvPicPr>
          <p:cNvPr id="54" name="Схема 11" descr=""/>
          <p:cNvPicPr/>
          <p:nvPr/>
        </p:nvPicPr>
        <p:blipFill>
          <a:blip r:embed="rId3"/>
          <a:stretch/>
        </p:blipFill>
        <p:spPr>
          <a:xfrm>
            <a:off x="4803840" y="2444760"/>
            <a:ext cx="4626000" cy="1859040"/>
          </a:xfrm>
          <a:prstGeom prst="rect">
            <a:avLst/>
          </a:prstGeom>
          <a:ln w="0">
            <a:noFill/>
          </a:ln>
        </p:spPr>
      </p:pic>
      <p:cxnSp>
        <p:nvCxnSpPr>
          <p:cNvPr id="55" name="Прямая со стрелкой 6"/>
          <p:cNvCxnSpPr/>
          <p:nvPr/>
        </p:nvCxnSpPr>
        <p:spPr>
          <a:xfrm flipH="1">
            <a:off x="2339640" y="1483920"/>
            <a:ext cx="1152720" cy="99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7"/>
          <p:cNvCxnSpPr/>
          <p:nvPr/>
        </p:nvCxnSpPr>
        <p:spPr>
          <a:xfrm>
            <a:off x="5580000" y="1483920"/>
            <a:ext cx="1008720" cy="99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xtBox 12"/>
          <p:cNvSpPr/>
          <p:nvPr/>
        </p:nvSpPr>
        <p:spPr>
          <a:xfrm>
            <a:off x="1403280" y="4653000"/>
            <a:ext cx="655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курсе могут принимать участие юридические лица и индивидуальные предприниматели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йствующие не менее г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ответствующие критериям отнесения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бъекту малого предприниматель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ответствии с Федеральным законом № 209-ФЗ от 24.07.2007 г., среди видов экономической деятельности которых име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д ОКВЭД 72.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учные исследования и разработки в области естественных и технических нау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формление и подача заявок производится в сети Интернет по адре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online.fasie.ru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ил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www.система-фонд.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язательная документация для участия в конкур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хема 3" descr=""/>
          <p:cNvPicPr/>
          <p:nvPr/>
        </p:nvPicPr>
        <p:blipFill>
          <a:blip r:embed="rId2"/>
          <a:stretch/>
        </p:blipFill>
        <p:spPr>
          <a:xfrm>
            <a:off x="1182600" y="1262160"/>
            <a:ext cx="6894720" cy="217620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4"/>
          <p:cNvSpPr/>
          <p:nvPr/>
        </p:nvSpPr>
        <p:spPr>
          <a:xfrm>
            <a:off x="1301760" y="3948120"/>
            <a:ext cx="294012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финансовое обеспеч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5219640" y="3933720"/>
            <a:ext cx="2808360" cy="432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возмещ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6"/>
          <p:cNvGrpSpPr/>
          <p:nvPr/>
        </p:nvGrpSpPr>
        <p:grpSpPr>
          <a:xfrm>
            <a:off x="1301760" y="4657680"/>
            <a:ext cx="2952720" cy="576360"/>
            <a:chOff x="1301760" y="4657680"/>
            <a:chExt cx="2952720" cy="576360"/>
          </a:xfrm>
        </p:grpSpPr>
        <p:sp>
          <p:nvSpPr>
            <p:cNvPr id="63" name="Скругленный прямоугольник 13"/>
            <p:cNvSpPr/>
            <p:nvPr/>
          </p:nvSpPr>
          <p:spPr>
            <a:xfrm>
              <a:off x="1301760" y="4790520"/>
              <a:ext cx="2952720" cy="44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Скругленный прямоугольник 4"/>
            <p:cNvSpPr/>
            <p:nvPr/>
          </p:nvSpPr>
          <p:spPr>
            <a:xfrm>
              <a:off x="1306800" y="4657680"/>
              <a:ext cx="2942640" cy="55476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календарный план выполнения инновационного проект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Группа 7"/>
          <p:cNvGrpSpPr/>
          <p:nvPr/>
        </p:nvGrpSpPr>
        <p:grpSpPr>
          <a:xfrm>
            <a:off x="1297080" y="5211720"/>
            <a:ext cx="2952720" cy="488880"/>
            <a:chOff x="1297080" y="5211720"/>
            <a:chExt cx="2952720" cy="488880"/>
          </a:xfrm>
        </p:grpSpPr>
        <p:sp>
          <p:nvSpPr>
            <p:cNvPr id="66" name="Скругленный прямоугольник 11"/>
            <p:cNvSpPr/>
            <p:nvPr/>
          </p:nvSpPr>
          <p:spPr>
            <a:xfrm>
              <a:off x="1297080" y="5211720"/>
              <a:ext cx="2952720" cy="488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Скругленный прямоугольник 6"/>
            <p:cNvSpPr/>
            <p:nvPr/>
          </p:nvSpPr>
          <p:spPr>
            <a:xfrm>
              <a:off x="1302120" y="5235480"/>
              <a:ext cx="2942640" cy="44136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смета расходов на выполнение инновационного проект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Группа 8"/>
          <p:cNvGrpSpPr/>
          <p:nvPr/>
        </p:nvGrpSpPr>
        <p:grpSpPr>
          <a:xfrm>
            <a:off x="1297080" y="5676840"/>
            <a:ext cx="2952720" cy="542880"/>
            <a:chOff x="1297080" y="5676840"/>
            <a:chExt cx="2952720" cy="542880"/>
          </a:xfrm>
        </p:grpSpPr>
        <p:sp>
          <p:nvSpPr>
            <p:cNvPr id="69" name="Скругленный прямоугольник 9"/>
            <p:cNvSpPr/>
            <p:nvPr/>
          </p:nvSpPr>
          <p:spPr>
            <a:xfrm>
              <a:off x="1297080" y="5676840"/>
              <a:ext cx="2952720" cy="54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Скругленный прямоугольник 8"/>
            <p:cNvSpPr/>
            <p:nvPr/>
          </p:nvSpPr>
          <p:spPr>
            <a:xfrm>
              <a:off x="1302120" y="5703120"/>
              <a:ext cx="2942640" cy="48996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документы, подтверждающие привлечение денежных средств инвестора или собственных средст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Группа 15"/>
          <p:cNvGrpSpPr/>
          <p:nvPr/>
        </p:nvGrpSpPr>
        <p:grpSpPr>
          <a:xfrm>
            <a:off x="5268960" y="4668840"/>
            <a:ext cx="2809800" cy="685800"/>
            <a:chOff x="5268960" y="4668840"/>
            <a:chExt cx="2809800" cy="685800"/>
          </a:xfrm>
        </p:grpSpPr>
        <p:sp>
          <p:nvSpPr>
            <p:cNvPr id="72" name="Скругленный прямоугольник 19"/>
            <p:cNvSpPr/>
            <p:nvPr/>
          </p:nvSpPr>
          <p:spPr>
            <a:xfrm>
              <a:off x="5268960" y="4668840"/>
              <a:ext cx="280980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Скругленный прямоугольник 4"/>
            <p:cNvSpPr/>
            <p:nvPr/>
          </p:nvSpPr>
          <p:spPr>
            <a:xfrm>
              <a:off x="5280480" y="4702320"/>
              <a:ext cx="2786760" cy="61884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9680" rIns="49680" tIns="49680" bIns="4968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финансовый отчет о понесенных расходах на реализацию проект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Группа 16"/>
          <p:cNvGrpSpPr/>
          <p:nvPr/>
        </p:nvGrpSpPr>
        <p:grpSpPr>
          <a:xfrm>
            <a:off x="5268960" y="5334120"/>
            <a:ext cx="2809800" cy="885600"/>
            <a:chOff x="5268960" y="5334120"/>
            <a:chExt cx="2809800" cy="885600"/>
          </a:xfrm>
        </p:grpSpPr>
        <p:sp>
          <p:nvSpPr>
            <p:cNvPr id="75" name="Скругленный прямоугольник 17"/>
            <p:cNvSpPr/>
            <p:nvPr/>
          </p:nvSpPr>
          <p:spPr>
            <a:xfrm>
              <a:off x="5268960" y="5334120"/>
              <a:ext cx="2809800" cy="885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Скругленный прямоугольник 6"/>
            <p:cNvSpPr/>
            <p:nvPr/>
          </p:nvSpPr>
          <p:spPr>
            <a:xfrm>
              <a:off x="5280480" y="5377320"/>
              <a:ext cx="2786760" cy="73692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9680" rIns="49680" tIns="49680" bIns="4968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гарантийное письмо о том, что в соответствии со ст.14 209-ФЗ от 24.07.2007 г., запрашиваемые для финансовой поддержки статьи расходов  ранее не финансировались из других бюджетных источнико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7" name="Прямая со стрелкой 22"/>
          <p:cNvCxnSpPr>
            <a:endCxn id="60" idx="0"/>
          </p:cNvCxnSpPr>
          <p:nvPr/>
        </p:nvCxnSpPr>
        <p:spPr>
          <a:xfrm flipH="1">
            <a:off x="2770920" y="3213000"/>
            <a:ext cx="1801080" cy="73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23"/>
          <p:cNvCxnSpPr>
            <a:endCxn id="61" idx="0"/>
          </p:cNvCxnSpPr>
          <p:nvPr/>
        </p:nvCxnSpPr>
        <p:spPr>
          <a:xfrm>
            <a:off x="4572000" y="3213000"/>
            <a:ext cx="205308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27"/>
          <p:cNvCxnSpPr>
            <a:stCxn id="60" idx="2"/>
          </p:cNvCxnSpPr>
          <p:nvPr/>
        </p:nvCxnSpPr>
        <p:spPr>
          <a:xfrm>
            <a:off x="2771280" y="4379760"/>
            <a:ext cx="2520" cy="27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28"/>
          <p:cNvCxnSpPr/>
          <p:nvPr/>
        </p:nvCxnSpPr>
        <p:spPr>
          <a:xfrm>
            <a:off x="6732720" y="4392360"/>
            <a:ext cx="21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Скругленный прямоугольник 29"/>
          <p:cNvSpPr/>
          <p:nvPr/>
        </p:nvSpPr>
        <p:spPr>
          <a:xfrm>
            <a:off x="2778120" y="954000"/>
            <a:ext cx="3456000" cy="216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щие док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Прямая со стрелкой 30"/>
          <p:cNvCxnSpPr/>
          <p:nvPr/>
        </p:nvCxnSpPr>
        <p:spPr>
          <a:xfrm>
            <a:off x="4571640" y="1157400"/>
            <a:ext cx="108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полнительная документац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участия в конкур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хема 3" descr=""/>
          <p:cNvPicPr/>
          <p:nvPr/>
        </p:nvPicPr>
        <p:blipFill>
          <a:blip r:embed="rId2"/>
          <a:stretch/>
        </p:blipFill>
        <p:spPr>
          <a:xfrm>
            <a:off x="1517760" y="1390680"/>
            <a:ext cx="666252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оритетные направления, по которым проводится конкурс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хема 4" descr=""/>
          <p:cNvPicPr/>
          <p:nvPr/>
        </p:nvPicPr>
        <p:blipFill>
          <a:blip r:embed="rId2"/>
          <a:stretch/>
        </p:blipFill>
        <p:spPr>
          <a:xfrm>
            <a:off x="1054080" y="1517760"/>
            <a:ext cx="702936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нансируемые статьи расходов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хема 4" descr=""/>
          <p:cNvPicPr/>
          <p:nvPr/>
        </p:nvPicPr>
        <p:blipFill>
          <a:blip r:embed="rId2"/>
          <a:stretch/>
        </p:blipFill>
        <p:spPr>
          <a:xfrm>
            <a:off x="378000" y="974880"/>
            <a:ext cx="8315280" cy="418752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384120" y="5229360"/>
            <a:ext cx="835344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альный объем гранта составл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более 10 млн. руб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му малому инновационному предприятию, при условии, что размер собственных средств получателя гранта и (или) средств третьих лиц, привлеченных для выполнения инновационного проекта не может быть менее величины получаемого гра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о статьей 14 Федерального закона № 209-ФЗ от 24.07.2007 г. запрашиваемые для финансовой поддержки статьи расходов, согласно прилагаемой смете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должны ранее финансироваться из других бюджетных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24000" y="6453360"/>
            <a:ext cx="83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чень расходов предварительный, после согласования с Минэкономразвития и Минфином РФ возможны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ерии оценки заяв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хема 2" descr=""/>
          <p:cNvPicPr/>
          <p:nvPr/>
        </p:nvPicPr>
        <p:blipFill>
          <a:blip r:embed="rId2"/>
          <a:stretch/>
        </p:blipFill>
        <p:spPr>
          <a:xfrm>
            <a:off x="695160" y="1407960"/>
            <a:ext cx="78948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ядок предоставления гра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2"/>
          <p:cNvSpPr/>
          <p:nvPr/>
        </p:nvSpPr>
        <p:spPr>
          <a:xfrm>
            <a:off x="1128600" y="1052640"/>
            <a:ext cx="293868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финансовое обеспеч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5292720" y="1052640"/>
            <a:ext cx="280836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возмещ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хема 4" descr=""/>
          <p:cNvPicPr/>
          <p:nvPr/>
        </p:nvPicPr>
        <p:blipFill>
          <a:blip r:embed="rId2"/>
          <a:stretch/>
        </p:blipFill>
        <p:spPr>
          <a:xfrm>
            <a:off x="523800" y="1609560"/>
            <a:ext cx="4011840" cy="4645080"/>
          </a:xfrm>
          <a:prstGeom prst="rect">
            <a:avLst/>
          </a:prstGeom>
          <a:ln w="0">
            <a:noFill/>
          </a:ln>
        </p:spPr>
      </p:pic>
      <p:grpSp>
        <p:nvGrpSpPr>
          <p:cNvPr id="97" name="Группа 5"/>
          <p:cNvGrpSpPr/>
          <p:nvPr/>
        </p:nvGrpSpPr>
        <p:grpSpPr>
          <a:xfrm>
            <a:off x="4716360" y="1628640"/>
            <a:ext cx="3959280" cy="1152720"/>
            <a:chOff x="4716360" y="1628640"/>
            <a:chExt cx="3959280" cy="1152720"/>
          </a:xfrm>
        </p:grpSpPr>
        <p:sp>
          <p:nvSpPr>
            <p:cNvPr id="98" name="Выноска со стрелкой вверх 6"/>
            <p:cNvSpPr/>
            <p:nvPr/>
          </p:nvSpPr>
          <p:spPr>
            <a:xfrm rot="10800000">
              <a:off x="4716360" y="1628640"/>
              <a:ext cx="3959280" cy="1152720"/>
            </a:xfrm>
            <a:prstGeom prst="upArrowCallout">
              <a:avLst>
                <a:gd name="adj1" fmla="val 24999"/>
                <a:gd name="adj2" fmla="val 24997"/>
                <a:gd name="adj3" fmla="val 25000"/>
                <a:gd name="adj4" fmla="val 70041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Выноска со стрелкой вверх 4"/>
            <p:cNvSpPr/>
            <p:nvPr/>
          </p:nvSpPr>
          <p:spPr>
            <a:xfrm>
              <a:off x="4716360" y="1628640"/>
              <a:ext cx="3959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85320" bIns="85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alibri"/>
                </a:rPr>
                <a:t>Заключение контракта на предоставления грантов малому инновационного предприятию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alibri"/>
                </a:rPr>
                <a:t>на возмещение расходо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Прямоугольник 12"/>
          <p:cNvSpPr/>
          <p:nvPr/>
        </p:nvSpPr>
        <p:spPr>
          <a:xfrm>
            <a:off x="4859280" y="5373720"/>
            <a:ext cx="3673440" cy="1368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5 лет после получения Гранта предприятие ежегодно до 15 апреля предоставляет в Фон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ю о достижении плановых показателей реализации инновационного прое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хгалтерскую отчетность и сведения о среднесписочной численности за прошедший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трелка вниз 13"/>
          <p:cNvSpPr/>
          <p:nvPr/>
        </p:nvSpPr>
        <p:spPr>
          <a:xfrm rot="16200000">
            <a:off x="4473360" y="5697000"/>
            <a:ext cx="390600" cy="320400"/>
          </a:xfrm>
          <a:prstGeom prst="downArrow">
            <a:avLst>
              <a:gd name="adj1" fmla="val 37194"/>
              <a:gd name="adj2" fmla="val 63852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трелка вниз 14"/>
          <p:cNvSpPr/>
          <p:nvPr/>
        </p:nvSpPr>
        <p:spPr>
          <a:xfrm>
            <a:off x="6480000" y="4956120"/>
            <a:ext cx="432000" cy="417600"/>
          </a:xfrm>
          <a:prstGeom prst="downArrow">
            <a:avLst>
              <a:gd name="adj1" fmla="val 35287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хема 18" descr=""/>
          <p:cNvPicPr/>
          <p:nvPr/>
        </p:nvPicPr>
        <p:blipFill>
          <a:blip r:embed="rId3"/>
          <a:stretch/>
        </p:blipFill>
        <p:spPr>
          <a:xfrm>
            <a:off x="4687920" y="2755800"/>
            <a:ext cx="38764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стых Денис Валерьевич - консультант отдела экспертизы и мониторин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нда содействия развитию малых форм предприятий в научно-технической сф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9034, Москва, 3-й Обыденский переулок, д.1, стр.5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б. 1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л.: +7 (495) 231-19-06 доб.15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lstykh@fasie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5T07:34:53Z</dcterms:created>
  <dc:creator>Толстых Денис Валерьевич</dc:creator>
  <dc:description/>
  <dc:language>en-US</dc:language>
  <cp:lastModifiedBy>Alexey</cp:lastModifiedBy>
  <dcterms:modified xsi:type="dcterms:W3CDTF">2014-09-24T12:46:09Z</dcterms:modified>
  <cp:revision>53</cp:revision>
  <dc:subject/>
  <dc:title>ОТКРЫТЫЙ КОНКУРС   ДЛЯ СУБЪЕКТОВ МАЛОГО ПРЕДПРИНИМАТЕЛЬСТВА</dc:title>
</cp:coreProperties>
</file>